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97000" y="838080"/>
            <a:ext cx="52833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百分数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TextBox 3"/>
          <p:cNvSpPr/>
          <p:nvPr/>
        </p:nvSpPr>
        <p:spPr>
          <a:xfrm>
            <a:off x="395280" y="2060640"/>
            <a:ext cx="61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百分数的意义和写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8" descr="6"/>
          <p:cNvPicPr/>
          <p:nvPr/>
        </p:nvPicPr>
        <p:blipFill>
          <a:blip r:embed="rId2"/>
          <a:stretch/>
        </p:blipFill>
        <p:spPr>
          <a:xfrm>
            <a:off x="650880" y="63180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2103480" y="35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  <a:ea typeface="宋体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  <a:ea typeface="宋体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319480" y="3716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  <a:ea typeface="宋体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  <a:ea typeface="宋体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6560" y="417240"/>
            <a:ext cx="48787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六、布置作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684360" y="256536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作业： 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8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页练习十八，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、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635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联系生活、引出百分数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332000" y="1773360"/>
            <a:ext cx="6257880" cy="44305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7"/>
          <p:cNvSpPr/>
          <p:nvPr/>
        </p:nvSpPr>
        <p:spPr>
          <a:xfrm>
            <a:off x="3851280" y="4221000"/>
            <a:ext cx="1297080" cy="576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564000" y="1773360"/>
            <a:ext cx="1790640" cy="4538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700360" y="1700280"/>
            <a:ext cx="4540320" cy="4680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22"/>
          <p:cNvSpPr/>
          <p:nvPr/>
        </p:nvSpPr>
        <p:spPr>
          <a:xfrm>
            <a:off x="3635280" y="3141720"/>
            <a:ext cx="1656000" cy="865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4"/>
          <p:cNvSpPr/>
          <p:nvPr/>
        </p:nvSpPr>
        <p:spPr>
          <a:xfrm>
            <a:off x="5483160" y="5864400"/>
            <a:ext cx="792360" cy="272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5"/>
          <p:cNvSpPr/>
          <p:nvPr/>
        </p:nvSpPr>
        <p:spPr>
          <a:xfrm>
            <a:off x="5867280" y="4941720"/>
            <a:ext cx="793800" cy="268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6560" y="3573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  <a:ea typeface="宋体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  <a:ea typeface="宋体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292720" y="1773360"/>
            <a:ext cx="2863800" cy="2952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84360" y="1773360"/>
            <a:ext cx="2881080" cy="2039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3780000" y="1773360"/>
            <a:ext cx="1218960" cy="3095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840200" y="5784840"/>
            <a:ext cx="59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0" descr="男天使副本"/>
          <p:cNvPicPr/>
          <p:nvPr/>
        </p:nvPicPr>
        <p:blipFill>
          <a:blip r:embed="rId5"/>
          <a:stretch/>
        </p:blipFill>
        <p:spPr>
          <a:xfrm>
            <a:off x="250920" y="4869000"/>
            <a:ext cx="1523880" cy="141444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2050920" y="4726080"/>
            <a:ext cx="2809800" cy="1007640"/>
            <a:chOff x="2050920" y="4726080"/>
            <a:chExt cx="2809800" cy="1007640"/>
          </a:xfrm>
        </p:grpSpPr>
        <p:sp>
          <p:nvSpPr>
            <p:cNvPr id="58" name="AutoShape 15"/>
            <p:cNvSpPr/>
            <p:nvPr/>
          </p:nvSpPr>
          <p:spPr>
            <a:xfrm>
              <a:off x="2050920" y="4726080"/>
              <a:ext cx="2808360" cy="1007640"/>
            </a:xfrm>
            <a:prstGeom prst="wedgeRoundRectCallout">
              <a:avLst>
                <a:gd name="adj1" fmla="val -60231"/>
                <a:gd name="adj2" fmla="val 41185"/>
                <a:gd name="adj3" fmla="val 16667"/>
              </a:avLst>
            </a:prstGeom>
            <a:noFill/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6"/>
            <p:cNvSpPr/>
            <p:nvPr/>
          </p:nvSpPr>
          <p:spPr>
            <a:xfrm>
              <a:off x="2124000" y="4804560"/>
              <a:ext cx="2736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你还在什么地方见过上面这样的数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Text Box 20"/>
          <p:cNvSpPr/>
          <p:nvPr/>
        </p:nvSpPr>
        <p:spPr>
          <a:xfrm>
            <a:off x="539640" y="5157720"/>
            <a:ext cx="7417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像上面这样的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5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…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叫做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百分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39640" y="5445000"/>
            <a:ext cx="8604360" cy="778680"/>
            <a:chOff x="539640" y="5445000"/>
            <a:chExt cx="8604360" cy="778680"/>
          </a:xfrm>
        </p:grpSpPr>
        <p:sp>
          <p:nvSpPr>
            <p:cNvPr id="62" name="Text Box 21"/>
            <p:cNvSpPr/>
            <p:nvPr/>
          </p:nvSpPr>
          <p:spPr>
            <a:xfrm>
              <a:off x="539640" y="5661000"/>
              <a:ext cx="8604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百分数表示一个数是另一个数的百分之几，如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4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%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表示一个数占另一个数的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8172360" y="5445000"/>
              <a:ext cx="666720" cy="778680"/>
              <a:chOff x="8172360" y="5445000"/>
              <a:chExt cx="666720" cy="778680"/>
            </a:xfrm>
          </p:grpSpPr>
          <p:sp>
            <p:nvSpPr>
              <p:cNvPr id="64" name=""/>
              <p:cNvSpPr/>
              <p:nvPr/>
            </p:nvSpPr>
            <p:spPr>
              <a:xfrm>
                <a:off x="8172360" y="5800680"/>
                <a:ext cx="6094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229600" y="5445000"/>
                <a:ext cx="6094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307360" y="58640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Rectangle 2"/>
          <p:cNvSpPr/>
          <p:nvPr/>
        </p:nvSpPr>
        <p:spPr>
          <a:xfrm>
            <a:off x="457200" y="417600"/>
            <a:ext cx="6635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联系生活、引出百分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1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47480" y="135000"/>
            <a:ext cx="69325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感悟，理解概念 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AutoShape 10"/>
          <p:cNvSpPr/>
          <p:nvPr/>
        </p:nvSpPr>
        <p:spPr>
          <a:xfrm>
            <a:off x="4284720" y="1557360"/>
            <a:ext cx="3311640" cy="1079640"/>
          </a:xfrm>
          <a:prstGeom prst="wedgeRoundRectCallout">
            <a:avLst>
              <a:gd name="adj1" fmla="val 58916"/>
              <a:gd name="adj2" fmla="val 15148"/>
              <a:gd name="adj3" fmla="val 16667"/>
            </a:avLst>
          </a:prstGeom>
          <a:noFill/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能说说上页图中几个百分数各表示什么意思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7"/>
          <p:cNvSpPr/>
          <p:nvPr/>
        </p:nvSpPr>
        <p:spPr>
          <a:xfrm>
            <a:off x="4498920" y="3933720"/>
            <a:ext cx="2952720" cy="1008000"/>
          </a:xfrm>
          <a:prstGeom prst="wedgeRoundRectCallout">
            <a:avLst>
              <a:gd name="adj1" fmla="val 63009"/>
              <a:gd name="adj2" fmla="val -1810"/>
              <a:gd name="adj3" fmla="val 16667"/>
            </a:avLst>
          </a:prstGeom>
          <a:noFill/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二幅图中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.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示羊毛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8"/>
          <p:cNvSpPr/>
          <p:nvPr/>
        </p:nvSpPr>
        <p:spPr>
          <a:xfrm>
            <a:off x="1836720" y="5380200"/>
            <a:ext cx="6048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百分数也叫做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百分率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或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百分比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282680" y="2679840"/>
            <a:ext cx="3289320" cy="1440000"/>
            <a:chOff x="1282680" y="2679840"/>
            <a:chExt cx="3289320" cy="1440000"/>
          </a:xfrm>
        </p:grpSpPr>
        <p:sp>
          <p:nvSpPr>
            <p:cNvPr id="73" name="AutoShape 12"/>
            <p:cNvSpPr/>
            <p:nvPr/>
          </p:nvSpPr>
          <p:spPr>
            <a:xfrm>
              <a:off x="1282680" y="2679840"/>
              <a:ext cx="3289320" cy="1439640"/>
            </a:xfrm>
            <a:prstGeom prst="wedgeRoundRectCallout">
              <a:avLst>
                <a:gd name="adj1" fmla="val -57384"/>
                <a:gd name="adj2" fmla="val 32027"/>
                <a:gd name="adj3" fmla="val 16667"/>
              </a:avLst>
            </a:prstGeom>
            <a:noFill/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第一个图中的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%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表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已经格式化的部分占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要格式化的总量的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3495600" y="3417840"/>
              <a:ext cx="657360" cy="702000"/>
              <a:chOff x="3495600" y="3417840"/>
              <a:chExt cx="657360" cy="702000"/>
            </a:xfrm>
          </p:grpSpPr>
          <p:sp>
            <p:nvSpPr>
              <p:cNvPr id="75" name=""/>
              <p:cNvSpPr/>
              <p:nvPr/>
            </p:nvSpPr>
            <p:spPr>
              <a:xfrm>
                <a:off x="3495600" y="3696840"/>
                <a:ext cx="6094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43120" y="3417840"/>
                <a:ext cx="6098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571920" y="3779280"/>
                <a:ext cx="419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-34920" y="3182760"/>
            <a:ext cx="1573200" cy="1729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7308720" y="4078440"/>
            <a:ext cx="1675080" cy="1871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6" descr="女天使"/>
          <p:cNvPicPr/>
          <p:nvPr/>
        </p:nvPicPr>
        <p:blipFill>
          <a:blip r:embed="rId4"/>
          <a:stretch/>
        </p:blipFill>
        <p:spPr>
          <a:xfrm>
            <a:off x="7620120" y="1413000"/>
            <a:ext cx="1523880" cy="1279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103480" y="35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  <a:ea typeface="宋体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  <a:ea typeface="宋体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"/>
                            </p:stCondLst>
                            <p:childTnLst>
                              <p:par>
                                <p:cTn id="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"/>
                            </p:stCondLst>
                            <p:childTnLst>
                              <p:par>
                                <p:cTn id="1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3325320" y="396360"/>
            <a:ext cx="79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交流反馈，形成概念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684360" y="1916280"/>
            <a:ext cx="73436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百分数通常不写成分数形式，而在原来的分子后面加上百分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来表示，读作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百分之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403280" y="3357720"/>
            <a:ext cx="1152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1403280" y="4248000"/>
            <a:ext cx="1656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5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1403280" y="5138640"/>
            <a:ext cx="1152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3060720" y="3357720"/>
            <a:ext cx="1152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读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3060720" y="4248000"/>
            <a:ext cx="1152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读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3060720" y="5138640"/>
            <a:ext cx="1152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读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4572000" y="3384720"/>
            <a:ext cx="2808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百分之十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4572000" y="4273560"/>
            <a:ext cx="2808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百分之六十五点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4572000" y="5138640"/>
            <a:ext cx="2808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百分之一百二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03480" y="35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  <a:ea typeface="宋体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  <a:ea typeface="宋体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19480" y="3716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  <a:ea typeface="宋体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  <a:ea typeface="宋体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35480" y="3932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  <a:ea typeface="宋体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  <a:ea typeface="宋体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51480" y="4148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  <a:ea typeface="宋体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  <a:ea typeface="宋体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3211200" y="3931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应用特征，解决问题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950760" y="1816200"/>
            <a:ext cx="48452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写出下面的百分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971640" y="2781360"/>
            <a:ext cx="4844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百分之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3419640" y="2781360"/>
            <a:ext cx="2376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百分之二十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6156360" y="2781360"/>
            <a:ext cx="2376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百分之零点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"/>
          <p:cNvSpPr/>
          <p:nvPr/>
        </p:nvSpPr>
        <p:spPr>
          <a:xfrm>
            <a:off x="1116000" y="4797360"/>
            <a:ext cx="1511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5"/>
          <p:cNvSpPr/>
          <p:nvPr/>
        </p:nvSpPr>
        <p:spPr>
          <a:xfrm>
            <a:off x="3708360" y="4797360"/>
            <a:ext cx="1511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6"/>
          <p:cNvSpPr/>
          <p:nvPr/>
        </p:nvSpPr>
        <p:spPr>
          <a:xfrm>
            <a:off x="6516720" y="4797360"/>
            <a:ext cx="1511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9"/>
          <p:cNvSpPr/>
          <p:nvPr/>
        </p:nvSpPr>
        <p:spPr>
          <a:xfrm>
            <a:off x="1476360" y="4254480"/>
            <a:ext cx="1079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0"/>
          <p:cNvSpPr/>
          <p:nvPr/>
        </p:nvSpPr>
        <p:spPr>
          <a:xfrm>
            <a:off x="4243680" y="4245120"/>
            <a:ext cx="872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28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1"/>
          <p:cNvSpPr/>
          <p:nvPr/>
        </p:nvSpPr>
        <p:spPr>
          <a:xfrm>
            <a:off x="6908760" y="4245120"/>
            <a:ext cx="971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0.5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879480" y="1844640"/>
            <a:ext cx="48448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读一读下面的百分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925560" y="3040200"/>
            <a:ext cx="872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2300400" y="3040200"/>
            <a:ext cx="872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5"/>
          <p:cNvSpPr/>
          <p:nvPr/>
        </p:nvSpPr>
        <p:spPr>
          <a:xfrm>
            <a:off x="3811680" y="3040200"/>
            <a:ext cx="872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6"/>
          <p:cNvSpPr/>
          <p:nvPr/>
        </p:nvSpPr>
        <p:spPr>
          <a:xfrm>
            <a:off x="5324760" y="3040200"/>
            <a:ext cx="1070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7"/>
          <p:cNvSpPr/>
          <p:nvPr/>
        </p:nvSpPr>
        <p:spPr>
          <a:xfrm>
            <a:off x="6836040" y="3040200"/>
            <a:ext cx="1070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4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25560" y="4264200"/>
            <a:ext cx="971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0"/>
          <p:cNvSpPr/>
          <p:nvPr/>
        </p:nvSpPr>
        <p:spPr>
          <a:xfrm>
            <a:off x="2300040" y="4264200"/>
            <a:ext cx="971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.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3811680" y="4264200"/>
            <a:ext cx="1169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3.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2"/>
          <p:cNvSpPr/>
          <p:nvPr/>
        </p:nvSpPr>
        <p:spPr>
          <a:xfrm>
            <a:off x="5324760" y="4264200"/>
            <a:ext cx="136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1.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3"/>
          <p:cNvSpPr/>
          <p:nvPr/>
        </p:nvSpPr>
        <p:spPr>
          <a:xfrm>
            <a:off x="6902640" y="4264200"/>
            <a:ext cx="1070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3211200" y="3931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应用特征，解决问题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684360" y="3284640"/>
          <a:ext cx="7715160" cy="2016000"/>
        </p:xfrm>
        <a:graphic>
          <a:graphicData uri="http://schemas.openxmlformats.org/drawingml/2006/table">
            <a:tbl>
              <a:tblPr/>
              <a:tblGrid>
                <a:gridCol w="1008000"/>
                <a:gridCol w="2849760"/>
                <a:gridCol w="3857400"/>
              </a:tblGrid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         </a:t>
                      </a:r>
                      <a:r>
                        <a:rPr b="1" lang="zh-CN" sz="24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百分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                  </a:t>
                      </a:r>
                      <a:r>
                        <a:rPr b="1" lang="zh-CN" sz="24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分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意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1" name=""/>
          <p:cNvGrpSpPr/>
          <p:nvPr/>
        </p:nvGrpSpPr>
        <p:grpSpPr>
          <a:xfrm>
            <a:off x="2259360" y="3789360"/>
            <a:ext cx="6489360" cy="1410480"/>
            <a:chOff x="2259360" y="3789360"/>
            <a:chExt cx="6489360" cy="1410480"/>
          </a:xfrm>
        </p:grpSpPr>
        <p:sp>
          <p:nvSpPr>
            <p:cNvPr id="122" name="Rectangle 115"/>
            <p:cNvSpPr/>
            <p:nvPr/>
          </p:nvSpPr>
          <p:spPr>
            <a:xfrm>
              <a:off x="2259360" y="3862440"/>
              <a:ext cx="164376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1c1c1c"/>
                  </a:solidFill>
                  <a:latin typeface="Arial"/>
                  <a:ea typeface="宋体"/>
                </a:rPr>
                <a:t>表示两个数之间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1c1c1c"/>
                  </a:solidFill>
                  <a:latin typeface="Arial"/>
                  <a:ea typeface="宋体"/>
                </a:rPr>
                <a:t>倍数关系</a:t>
              </a:r>
              <a:r>
                <a:rPr b="0" lang="zh-CN" sz="2400" spc="-1" strike="noStrike">
                  <a:solidFill>
                    <a:srgbClr val="1c1c1c"/>
                  </a:solidFill>
                  <a:latin typeface="Arial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17"/>
            <p:cNvSpPr/>
            <p:nvPr/>
          </p:nvSpPr>
          <p:spPr>
            <a:xfrm>
              <a:off x="4643280" y="3789360"/>
              <a:ext cx="4105440" cy="14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1c1c1c"/>
                  </a:solidFill>
                  <a:latin typeface="Arial"/>
                  <a:ea typeface="宋体"/>
                </a:rPr>
                <a:t>既可以表示一个具体的数</a:t>
              </a:r>
              <a:r>
                <a:rPr b="0" lang="zh-CN" sz="2400" spc="-1" strike="noStrike">
                  <a:solidFill>
                    <a:srgbClr val="1c1c1c"/>
                  </a:solidFill>
                  <a:latin typeface="Arial"/>
                </a:rPr>
                <a:t>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1c1c1c"/>
                  </a:solidFill>
                  <a:latin typeface="Arial"/>
                  <a:ea typeface="宋体"/>
                </a:rPr>
                <a:t>又可以表示两个数之间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1c1c1c"/>
                  </a:solidFill>
                  <a:latin typeface="Arial"/>
                  <a:ea typeface="宋体"/>
                </a:rPr>
                <a:t>倍数关系</a:t>
              </a:r>
              <a:r>
                <a:rPr b="0" lang="zh-CN" sz="2400" spc="-1" strike="noStrike">
                  <a:solidFill>
                    <a:srgbClr val="1c1c1c"/>
                  </a:solidFill>
                  <a:latin typeface="Arial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6200" y="379440"/>
            <a:ext cx="61311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五、分析比较、巩固形成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5" name="Text Box 118"/>
          <p:cNvSpPr/>
          <p:nvPr/>
        </p:nvSpPr>
        <p:spPr>
          <a:xfrm>
            <a:off x="1187280" y="5445000"/>
            <a:ext cx="6769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所以百分数的后面不能写</a:t>
            </a:r>
            <a:r>
              <a:rPr b="0" lang="zh-CN" sz="3000" spc="-1" strike="noStrike">
                <a:solidFill>
                  <a:srgbClr val="ff0000"/>
                </a:solidFill>
                <a:latin typeface="宋体"/>
                <a:ea typeface="宋体"/>
              </a:rPr>
              <a:t>单位名称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527040" y="1365120"/>
            <a:ext cx="6624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比较辨析分数、百分数的异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0" descr="男天使副本"/>
          <p:cNvPicPr/>
          <p:nvPr/>
        </p:nvPicPr>
        <p:blipFill>
          <a:blip r:embed="rId2"/>
          <a:stretch/>
        </p:blipFill>
        <p:spPr>
          <a:xfrm>
            <a:off x="395280" y="2009880"/>
            <a:ext cx="1297080" cy="120312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1979640" y="2133720"/>
            <a:ext cx="6549840" cy="966240"/>
            <a:chOff x="1979640" y="2133720"/>
            <a:chExt cx="6549840" cy="966240"/>
          </a:xfrm>
        </p:grpSpPr>
        <p:sp>
          <p:nvSpPr>
            <p:cNvPr id="129" name="AutoShape 15"/>
            <p:cNvSpPr/>
            <p:nvPr/>
          </p:nvSpPr>
          <p:spPr>
            <a:xfrm>
              <a:off x="1979640" y="2133720"/>
              <a:ext cx="6549840" cy="719280"/>
            </a:xfrm>
            <a:prstGeom prst="wedgeRoundRectCallout">
              <a:avLst>
                <a:gd name="adj1" fmla="val -54263"/>
                <a:gd name="adj2" fmla="val 35870"/>
                <a:gd name="adj3" fmla="val 16667"/>
              </a:avLst>
            </a:prstGeom>
            <a:noFill/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16"/>
            <p:cNvSpPr/>
            <p:nvPr/>
          </p:nvSpPr>
          <p:spPr>
            <a:xfrm>
              <a:off x="2004840" y="2205000"/>
              <a:ext cx="6382800" cy="89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说一说百分数和分数在意义上有什么相同和不同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522360" y="1370160"/>
            <a:ext cx="6624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介绍数学小知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2"/>
          <p:cNvSpPr/>
          <p:nvPr/>
        </p:nvSpPr>
        <p:spPr>
          <a:xfrm>
            <a:off x="466560" y="37944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五、分析比较、巩固形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54200" y="2025720"/>
            <a:ext cx="770544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/>
  <dcterms:modified xsi:type="dcterms:W3CDTF">2018-09-07T06:32:3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